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9AD2E-9B78-4F27-9D64-B609E96DF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81B2C-CA58-4D08-90AE-6EE81865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741E7-E4CD-4A51-B299-981597F23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25F2B-DC95-4EC8-A3F3-489C88A8B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F477-5DD7-49D6-B239-8EF784685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9564-5835-4B58-A8F0-E0195F46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3238-76BA-48DA-9D57-6416C0D5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43C4-174D-4E44-A0EA-9C42F052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922B-D4AE-4A32-8498-5D94F26E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5410-2865-4D18-9ADE-41B22282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4CEA-7B8E-4D7B-A141-661A4293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85A39-CA81-4C17-80A9-F26A73DB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27D0-2CDB-420B-B600-EF44B3D1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D614-76B1-4B97-A08F-6761EA76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1CC8-6EC7-4116-8D5C-17B28592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DE8B-748F-40C7-9F5B-1581ED185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216D-78E2-4333-BD2D-CD27F7EF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56C71-5238-4BE7-A5FB-A1A11800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4402B-710A-429C-AEBE-453B778C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B3B62-B85A-413E-A0FB-E32305D1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AF65A-C7D0-4B96-BA62-0039F479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DD775-7D73-40A7-A6DA-8BD0071F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C7580-F5EF-4E2B-9301-5CF219CD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EDB93-C9D5-425F-9035-B1AF2445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D76F-351D-4A70-B2CF-AA00D6509F9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A760-D661-44C1-BE0C-F75B10B7F76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Monotype Corsiva"/>
              </a:rPr>
              <a:t>Основные понятия химии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стекло9"/>
          <p:cNvPicPr/>
          <p:nvPr/>
        </p:nvPicPr>
        <p:blipFill>
          <a:blip r:embed="rId1"/>
          <a:stretch/>
        </p:blipFill>
        <p:spPr>
          <a:xfrm>
            <a:off x="6732720" y="333360"/>
            <a:ext cx="1439640" cy="1295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стекло8"/>
          <p:cNvPicPr/>
          <p:nvPr/>
        </p:nvPicPr>
        <p:blipFill>
          <a:blip r:embed="rId2"/>
          <a:stretch/>
        </p:blipFill>
        <p:spPr>
          <a:xfrm>
            <a:off x="468360" y="4370400"/>
            <a:ext cx="223200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Химические я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4906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вления, в резуль-тате котор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99"/>
                </a:solidFill>
                <a:latin typeface="Arial"/>
              </a:rPr>
              <a:t>образуются новые веществ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облада-ющие новыми хими-ческими свойства-ми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:из углекислого газа и воды в клетках деревьев образу-ется глюкоза и кислор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деревья-рис.3"/>
          <p:cNvPicPr/>
          <p:nvPr/>
        </p:nvPicPr>
        <p:blipFill>
          <a:blip r:embed="rId1"/>
          <a:stretch/>
        </p:blipFill>
        <p:spPr>
          <a:xfrm>
            <a:off x="5435640" y="1700280"/>
            <a:ext cx="3529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3-05"/>
          <p:cNvPicPr/>
          <p:nvPr/>
        </p:nvPicPr>
        <p:blipFill>
          <a:blip r:embed="rId1"/>
          <a:stretch/>
        </p:blipFill>
        <p:spPr>
          <a:xfrm>
            <a:off x="755640" y="1268280"/>
            <a:ext cx="7920000" cy="54007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808200" y="423720"/>
            <a:ext cx="779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Что необходимо растени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Физические я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95640" y="1981080"/>
            <a:ext cx="489744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вления, при кото-рых </a:t>
            </a:r>
            <a:r>
              <a:rPr b="0" i="1" lang="ru-RU" sz="3600" spc="-1" strike="noStrike">
                <a:solidFill>
                  <a:srgbClr val="000099"/>
                </a:solidFill>
                <a:latin typeface="Arial"/>
              </a:rPr>
              <a:t>изменяются агрегатное состояни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форма тела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рзание вод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ей) или кипячение воды (пар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лед на ветках-рис.8"/>
          <p:cNvPicPr/>
          <p:nvPr/>
        </p:nvPicPr>
        <p:blipFill>
          <a:blip r:embed="rId1"/>
          <a:stretch/>
        </p:blipFill>
        <p:spPr>
          <a:xfrm>
            <a:off x="324000" y="1989000"/>
            <a:ext cx="34812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80" y="457200"/>
            <a:ext cx="8785440" cy="11001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Уравнение химической реа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равнение – условная запись химического процесса, в которой используются химические символы, математические знаки и иные символ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 « При взаимодействии молекул водорода и кислорода образуются молекулы воды», можно записать в вид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ав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2Н</a:t>
            </a:r>
            <a:r>
              <a:rPr b="1" i="1" lang="ru-RU" sz="2800" spc="-1" strike="noStrike" baseline="-25000">
                <a:solidFill>
                  <a:srgbClr val="000099"/>
                </a:solidFill>
                <a:latin typeface="Arial"/>
              </a:rPr>
              <a:t>2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+ О</a:t>
            </a:r>
            <a:r>
              <a:rPr b="1" i="1" lang="ru-RU" sz="2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→ 2 Н</a:t>
            </a:r>
            <a:r>
              <a:rPr b="1" i="1" lang="ru-RU" sz="28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т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от греч. </a:t>
            </a: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atomos – неделимы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, наименьшая частица химическ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лемента, носитель его свойст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лементы химические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вокупности атомов с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енным зарядо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дра Z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1атом на иранских деньгах"/>
          <p:cNvPicPr/>
          <p:nvPr/>
        </p:nvPicPr>
        <p:blipFill>
          <a:blip r:embed="rId1"/>
          <a:stretch/>
        </p:blipFill>
        <p:spPr>
          <a:xfrm>
            <a:off x="684360" y="3573360"/>
            <a:ext cx="25192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Молекул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оволат.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molecul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уменьшит. от лат.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moles – масс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икрочастица, образованная из дву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ли большего числа атомов и способная к самостоятельному существован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молекулы"/>
          <p:cNvPicPr/>
          <p:nvPr/>
        </p:nvPicPr>
        <p:blipFill>
          <a:blip r:embed="rId1"/>
          <a:stretch/>
        </p:blipFill>
        <p:spPr>
          <a:xfrm>
            <a:off x="684360" y="4149720"/>
            <a:ext cx="2663640" cy="21589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3543480" y="6184800"/>
            <a:ext cx="50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ростержневая модель молеку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Ио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от греч. </a:t>
            </a: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ion – идущи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дноатомные или многоатомные частицы, несущие электрический заря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ложительные ион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зывают </a:t>
            </a:r>
            <a:r>
              <a:rPr b="0" i="1" lang="ru-RU" sz="2800" spc="-1" strike="noStrike">
                <a:solidFill>
                  <a:srgbClr val="990033"/>
                </a:solidFill>
                <a:latin typeface="Arial"/>
              </a:rPr>
              <a:t>катионам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т греч. kation, буквально – идущий вниз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(атом) H</a:t>
            </a:r>
            <a:r>
              <a:rPr b="0" lang="ru-RU" sz="28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− 1 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lang="ru-RU" sz="2800" spc="-1" strike="noStrike" baseline="30000">
                <a:solidFill>
                  <a:srgbClr val="000099"/>
                </a:solidFill>
                <a:latin typeface="Arial"/>
              </a:rPr>
              <a:t>−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= H</a:t>
            </a:r>
            <a:r>
              <a:rPr b="0" lang="ru-RU" sz="2800" spc="-1" strike="noStrike" baseline="30000">
                <a:solidFill>
                  <a:srgbClr val="000099"/>
                </a:solidFill>
                <a:latin typeface="Arial"/>
              </a:rPr>
              <a:t>+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(ион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рицательны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2800" spc="-1" strike="noStrike">
                <a:solidFill>
                  <a:srgbClr val="990033"/>
                </a:solidFill>
                <a:latin typeface="Arial"/>
              </a:rPr>
              <a:t>анионам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т греч. anion, буквально идущий вверх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 +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1 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lang="ru-RU" sz="2800" spc="-1" strike="noStrike" baseline="30000">
                <a:solidFill>
                  <a:srgbClr val="000099"/>
                </a:solidFill>
                <a:latin typeface="Arial"/>
              </a:rPr>
              <a:t>−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=Cl 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алент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211280" y="1557360"/>
            <a:ext cx="44751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от лат. </a:t>
            </a: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valentia – сил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,способность атома присоединять или замещать определенное число других атомов или атомных групп с образованием химической связ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молекулы воды и пара"/>
          <p:cNvPicPr/>
          <p:nvPr/>
        </p:nvPicPr>
        <p:blipFill>
          <a:blip r:embed="rId1"/>
          <a:stretch/>
        </p:blipFill>
        <p:spPr>
          <a:xfrm>
            <a:off x="428760" y="1500120"/>
            <a:ext cx="40719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акон сохранения мас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са веществ, вступивших в реакцию, равна массе всех продуктов реа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ериодический за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йства простых веществ, а также формы и свойства соединений элементов находятся в периодической зависимости от заряда ядра элем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законы 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Номер слайд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59D5-9B14-42A7-B457-A70F5994FC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акон постоянства сост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ое вещество, каким бы способом оно ни было получено, всегда имеет один и тот же качественный и количественный состав (и свойств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акон эквивал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щества взаимодействуют между собой в количествах, пропорциональных их эквивален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законы 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Номер слайд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1F0A-E9B2-45C2-BEB3-1DAFC8F3E3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91520" cy="1081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Химия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–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79280" y="1980720"/>
            <a:ext cx="6707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ука о превращениях веществ, связанных с изменени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лектронного окружения атомных яд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2 колбы"/>
          <p:cNvPicPr/>
          <p:nvPr/>
        </p:nvPicPr>
        <p:blipFill>
          <a:blip r:embed="rId1"/>
          <a:stretch/>
        </p:blipFill>
        <p:spPr>
          <a:xfrm>
            <a:off x="250920" y="2349360"/>
            <a:ext cx="17398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7200" y="12139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акон кратных отно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два элемента образуют между собой несколько соединений, то массовые доли любого из элементов в этих соединениях относятся друг к другу как небольшие целые чи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акон объемных отно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ъемы вступающих в реакцию газов, а также объемы газообразных продуктов реакции относятся друг к другу как простые целые чи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законы 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Номер слайд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0C6A-CC58-4ACA-BDEF-4E0FFA1D08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акон Авогад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авных объемах различных газов при одинаковых условиях (температура и давление) содержится одинаковое число молеку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ледствия из закона Авогад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ри одинаковых условиях равные количества различных газов занимают равные объ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ри н.у. (Т = 273,15 К, Р = 1,01 ∙ 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а ил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0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̊С; Р = 1 атм) 1 моль любого газа занимает объем, примерно равный 22,4 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законы 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Номер слайд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FA1A-89A8-4DBE-A1F2-285A2D31F0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142640"/>
            <a:ext cx="8400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бъединенный газовый за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Р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значения давления,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ъема, температуры при н.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Уравнение Клайперона-Менделеева (для идеального газ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, где Р - давление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объем;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количество газа (моль); Т – температура (в К)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универсальная газовая постоянная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8,314 Дж/ моль ∙ 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законы 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Номер слайд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EF78-E860-4018-9115-598F2FEA1E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7" descr=""/>
          <p:cNvPicPr/>
          <p:nvPr/>
        </p:nvPicPr>
        <p:blipFill>
          <a:blip r:embed="rId1"/>
          <a:stretch/>
        </p:blipFill>
        <p:spPr>
          <a:xfrm>
            <a:off x="6572160" y="2143080"/>
            <a:ext cx="2210040" cy="13572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9"/>
          <p:cNvSpPr/>
          <p:nvPr/>
        </p:nvSpPr>
        <p:spPr>
          <a:xfrm>
            <a:off x="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Д.И.Менделеев*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43280" y="1557000"/>
            <a:ext cx="6121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Ближайший предмет хим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ля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родны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ществ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сложения которых составле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тела мира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вращений их друг в друг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явлений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овождающих такие превращен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*Менделеев Д. Основы Химии 6-е издание С-Пб, тип. В.Демакова, 1895.– 780 с., с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портрет Д"/>
          <p:cNvPicPr/>
          <p:nvPr/>
        </p:nvPicPr>
        <p:blipFill>
          <a:blip r:embed="rId1"/>
          <a:stretch/>
        </p:blipFill>
        <p:spPr>
          <a:xfrm>
            <a:off x="285840" y="1628640"/>
            <a:ext cx="27144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ещ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03280" y="1267920"/>
            <a:ext cx="7283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 материи, которая обладает массой покоя. Состоит из элементарных частиц: электронов, протонов, нейтронов, мезонов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мия изучает главным образом вещество, организованное в атомы, молекулы, ионы и радикалы. Та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щества принято подразделять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ые и сложные (хим. соединен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колбы 3"/>
          <p:cNvPicPr/>
          <p:nvPr/>
        </p:nvPicPr>
        <p:blipFill>
          <a:blip r:embed="rId1"/>
          <a:stretch/>
        </p:blipFill>
        <p:spPr>
          <a:xfrm>
            <a:off x="179280" y="1341360"/>
            <a:ext cx="16560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Тело и веществ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0040" y="15714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Что мы сажаем,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Сажая Леса?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Легкие крылья —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Лететь в небеса.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Стол, за которым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Ты будешь писать,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Ручку,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Линейку,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Пенал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И тетрадь.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        Я. Марш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Безымянный"/>
          <p:cNvPicPr/>
          <p:nvPr/>
        </p:nvPicPr>
        <p:blipFill>
          <a:blip r:embed="rId1"/>
          <a:stretch/>
        </p:blipFill>
        <p:spPr>
          <a:xfrm>
            <a:off x="611280" y="1628640"/>
            <a:ext cx="2174760" cy="4105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графика Думай"/>
          <p:cNvPicPr/>
          <p:nvPr/>
        </p:nvPicPr>
        <p:blipFill>
          <a:blip r:embed="rId2"/>
          <a:stretch/>
        </p:blipFill>
        <p:spPr>
          <a:xfrm>
            <a:off x="6500880" y="1773360"/>
            <a:ext cx="207468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ростые вещ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14800" y="1571760"/>
            <a:ext cx="5472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ы атомами одного химического элемента и потому являются формой ег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ования в свободном состоян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сера, железо, озон, алмаз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алмазы(диаманты)"/>
          <p:cNvPicPr/>
          <p:nvPr/>
        </p:nvPicPr>
        <p:blipFill>
          <a:blip r:embed="rId1"/>
          <a:stretch/>
        </p:blipFill>
        <p:spPr>
          <a:xfrm>
            <a:off x="357120" y="1571760"/>
            <a:ext cx="2857680" cy="47149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1116000" y="400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м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ложные вещ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разованы разными элементами и могут иметь состав постоянный (стехиометрические соеди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дальтониды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или меняющийся в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которых пределах   (нестехиометрическ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единения и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бертоллиды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кристаллы соли"/>
          <p:cNvPicPr/>
          <p:nvPr/>
        </p:nvPicPr>
        <p:blipFill>
          <a:blip r:embed="rId1"/>
          <a:stretch/>
        </p:blipFill>
        <p:spPr>
          <a:xfrm>
            <a:off x="5867280" y="4437000"/>
            <a:ext cx="2665440" cy="18496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4840200" y="6184800"/>
            <a:ext cx="41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сталлы поваренной соли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меси веще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348000" y="1981080"/>
            <a:ext cx="53388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меси – системы, состоящие из двух или более веществ, свойства которых сохраняются, а сами вещества могут быть разделены друг от друг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ребенок-рис.1"/>
          <p:cNvPicPr/>
          <p:nvPr/>
        </p:nvPicPr>
        <p:blipFill>
          <a:blip r:embed="rId1"/>
          <a:stretch/>
        </p:blipFill>
        <p:spPr>
          <a:xfrm>
            <a:off x="500040" y="1785960"/>
            <a:ext cx="318600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829152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Вещества делятся по происхожде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3-01"/>
          <p:cNvPicPr/>
          <p:nvPr/>
        </p:nvPicPr>
        <p:blipFill>
          <a:blip r:embed="rId1"/>
          <a:stretch/>
        </p:blipFill>
        <p:spPr>
          <a:xfrm>
            <a:off x="468360" y="1844640"/>
            <a:ext cx="82072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9T14:13:20Z</dcterms:created>
  <dc:creator>Kim</dc:creator>
  <dc:description/>
  <dc:language>en-US</dc:language>
  <cp:lastModifiedBy>Admin</cp:lastModifiedBy>
  <dcterms:modified xsi:type="dcterms:W3CDTF">2012-12-18T12:06:45Z</dcterms:modified>
  <cp:revision>13</cp:revision>
  <dc:subject/>
  <dc:title>Основные понятия химии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2060000000000010250300207f7000400038000</vt:lpwstr>
  </property>
</Properties>
</file>